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508-E2E4-4C1A-BF66-41F2A87F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B74D-295B-4356-8F98-65803091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0B0-5266-457B-88BF-A7E4FD27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25B-82D3-4437-BC8F-C99C67F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37C-6B99-461F-A533-CEA83AF2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1CD-F606-40D0-B73A-C033DEE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953-BB6F-48A1-A5BA-0AF8492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9F3-F66E-4CAE-A861-5304368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9B0-D1A8-428A-A0A2-2183715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461-CD5D-4DFB-9D87-A60C768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9CE-49AA-4DAD-B3BA-CB5EAC5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98A-58C7-4DDA-BC8F-8E25403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4D5-D381-43CF-A4BB-61144AFC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449-29F6-4427-8E1B-03E4C661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9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LCCI black strip"/>
          <p:cNvPicPr/>
          <p:nvPr/>
        </p:nvPicPr>
        <p:blipFill>
          <a:blip r:embed="rId2"/>
          <a:stretch/>
        </p:blipFill>
        <p:spPr>
          <a:xfrm>
            <a:off x="0" y="0"/>
            <a:ext cx="9144000" cy="14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917-84CB-4BE5-9858-096DA1589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owerpoin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299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ndonchamber.co.uk//lcc_public/default.asp?id=866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mpanieshouse.gov.uk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rade.ec.europa.eu/doclib/docs/2006/september/tradoc_113424.pdf" TargetMode="External"/><Relationship Id="rId2" Type="http://schemas.openxmlformats.org/officeDocument/2006/relationships/hyperlink" Target="http://ec.europa.eu/external_relations/nepal/intro/index.htm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reightnet.com/country/96.2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iccwbo.org/" TargetMode="Externa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k-customs-tariff.com/" TargetMode="External"/><Relationship Id="rId2" Type="http://schemas.openxmlformats.org/officeDocument/2006/relationships/hyperlink" Target="http://ec.europa.eu/trade/issues/global/gsp/index_en.htm" TargetMode="External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ustoms.hmrc.gov.uk/channelsPortalWebApp/channelsPortalWebApp.portal?_nfpb=true&amp;_pageLabel=pageImport_ShowContent&amp;id=HMCE_PROD1_023831&amp;propertyType=document" TargetMode="External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87280" y="2923920"/>
            <a:ext cx="6264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ing Business with the EU and particularly U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360" y="4365360"/>
            <a:ext cx="5392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ter Bi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uty 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ndon Chamber of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About Yo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32000" y="299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rget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idely dr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artenep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Global Contex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its come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t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" descr="countries_europe_map2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E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rigins in EC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gle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uro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pproach to `Third Countries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EU Now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acts and Fig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sks to prosp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E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mar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ture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ondonchamber.co.uk//lcc_public/default.asp?id=866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100"/>
            </a:b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ap of United Kingd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UK Marke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conomic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UK Marke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usiness and leg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ypes of business e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stering a foreign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anieshouse.gov.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62028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y 1 –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verall project and how this element fits in Programme and objectives of next two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 am, and my cred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you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The Glob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trade and the phenomenon of glob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globalisation is, and how it has com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n N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The 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t has evolved and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 to thir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Nepal as an Expor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jor trading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K-Nepal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de.ec.europa.eu/doclib/docs/2006/september/tradoc_113424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xternal_relations/nepal/intro/index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Nepal as an Expor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dures and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stoms acts and tariff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port man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ightnet.com/country/96.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Nepal as an Expor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Nepal as an Expor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k in groups to assess SWOT in relation to exports to 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Principles of Exportin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ex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 export the right option for your cl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por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ources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Market Research</a:t>
            </a: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ke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les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Channels of Distribu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tribu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Quotations a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19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INCOTERM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erms of con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3 Inco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lecting the appropriate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ccw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ransport and Document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492280"/>
            <a:ext cx="77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right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right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The UK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indicators and trading 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and legal framework;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information and channels of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. Nepal as an exp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export marke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ex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ort procedures and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 of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Principles of Ex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ort an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s of con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ting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sic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Getting Paid</a:t>
            </a: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s of cre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Bill of Exchang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ll of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o: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1234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don, 1 May 200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: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GBP 200,000.00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IGHT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ay th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LE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 Exchan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UNDS STERLING TWO HUNDRED THOUSAND ONL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o the Order o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SELVES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 Receiv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ich place to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y Import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 and on behalf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Countr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UK Expo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igned    K. Mandu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osition:  Director 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ection 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tters of Credi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vo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irmed irrevo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ters of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EU/UK Import Procedures</a:t>
            </a: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ta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ping the importer pick your client as their supp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EU/UK Import Procedur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341360"/>
          <a:ext cx="8229600" cy="5040360"/>
        </p:xfrm>
        <a:graphic>
          <a:graphicData uri="http://schemas.openxmlformats.org/drawingml/2006/table">
            <a:tbl>
              <a:tblPr/>
              <a:tblGrid>
                <a:gridCol w="4105080"/>
                <a:gridCol w="412452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Tarif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s of leather – ie. trunks, suitcases, wallets, p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ther cl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te and other textile bast fi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ven fabrics of j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 and mes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 (round, medium, long grain 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ing plants with buds or flow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02 90 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flowers and flower buds for bouqu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s, nuts and other edible parts of pl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, wood or sulphate turpent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260280"/>
          <a:ext cx="8507520" cy="609624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13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 and articles there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 structures and parts of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and articles there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zinc-base alloys (bras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3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s of iron or 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ry for washing, cleaning, wringing, drying, ironing, pressing, bleaching, dyeing, dressing, finishing, coating of i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amic glass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3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 ivory, bone, tortoiseshell, horn, antlers, coral, mother-of-pearl and other animal carving material, and articles of these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50920" y="274680"/>
          <a:ext cx="8435880" cy="4384800"/>
        </p:xfrm>
        <a:graphic>
          <a:graphicData uri="http://schemas.openxmlformats.org/drawingml/2006/table">
            <a:tbl>
              <a:tblPr/>
              <a:tblGrid>
                <a:gridCol w="4217760"/>
                <a:gridCol w="421812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o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s of bamboo or rat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01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s of jewellery and parts thereof, of precious metal or of metal clad with precious me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f silver, whether or not plated or clad with other precious me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3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wls, scarves, mufflers and ve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7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elopes, letter cards, plain postcards and correspondence cards, of paper 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board; boxes, pouches, wallets and writing compendiums, of paper or paperboard, containing an assortment of paper station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78343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ay 2 – Specif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gramme for the day will be illustrated with exampl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ual/potential Nepalese products for export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7. EU/UK Import Procedu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ty treatment an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iance with EU/UK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 and EU Trad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k-customs-tariff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c.europa.eu/taxation_customs/dds/tarhome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mmary of EU External Trade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uropa.eu/scadplus/leg/en/s0502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ised System of Preferen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G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trade/issues/global/gsp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ort Helpdesk for Developing 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xporthelp.europa.e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Access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mkaccdb.eu.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P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 criteria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con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s about G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/EU Tar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/EU Tar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ts of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rate of 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ferential rate of 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e of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ariff Preference: A guide to the EC's proposed new Generalised System of Preferences (GSP) for the Period 1 April 2005 to 31 Dec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88 (S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err.gov.uk/europeandtrade/importing-into-uk/import-licensing/page978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rigi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origi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/EU Reg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ec.europa/enterprise/sectorse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bsi-glob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ing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mkaccdb.eu.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17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1-tes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75452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. The UK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key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ts and 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hibitions and trade 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business with the Brit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. Sources of fur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Trade Centre UNCTAD/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mbers, I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. Acting as an Export Adv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 client, company an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an import – export adviso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going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sonycamera004"/>
          <p:cNvPicPr/>
          <p:nvPr/>
        </p:nvPicPr>
        <p:blipFill>
          <a:blip r:embed="rId1"/>
          <a:srcRect l="1967" t="0" r="393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tesco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4_DSC_0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7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91607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98_fortnum_am231007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kilim-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btaa.org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keynot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79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britshcoffeeassociation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ic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britishcoffeeassociation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 The Export Transaction of the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 Summary and 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fo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resh Produc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5640" y="233208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freshproduce.org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atabas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kompass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ector Sum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ga-uk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ass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uit and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ector Summari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wellery and w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o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pets and 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airs and Exhib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7499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exhibitions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aling with the Britis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859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pts an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ltur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ttp://www.communicaid.com/cross-cultural-training/culture-for-business-and-management/doing-business-in/British-business-and-social-cultur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cting as an Export Advi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port Transaction of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in five year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en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715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make Nepalese IBOS better equipped to facilitate trade between Europe &amp; Ne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rget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x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The Semina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ab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ed with othe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640" y="306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T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v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3:23:03Z</dcterms:created>
  <dc:creator>Temp</dc:creator>
  <dc:description/>
  <dc:language>en-US</dc:language>
  <cp:lastModifiedBy>user</cp:lastModifiedBy>
  <dcterms:modified xsi:type="dcterms:W3CDTF">2008-05-24T01:09:53Z</dcterms:modified>
  <cp:revision>37</cp:revision>
  <dc:subject/>
  <dc:title>ISTANBUL</dc:title>
</cp:coreProperties>
</file>