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783-91BA-427C-A2E5-58F339DB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E31-DC26-4F37-8AE2-9A0BE1C8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790-1BFB-4283-AB63-E8A9E2B9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C40-5691-4918-A34C-3C663CCB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0253-7DD0-42B6-94BA-18280C94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3514-4485-4F87-A68D-297F36BC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CD8F-11E2-45B3-87CD-DBE4F89D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870-4810-41C3-A967-9C2158D0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CC9F-E2FD-4527-ABBC-72CC148B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3BD-AEE5-4C54-9046-5FA4A77A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02E1-0FC6-4909-ADEB-9D193381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565-C3D6-4B0B-89E7-AE3B1477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C02B-57EF-4832-807C-37BB875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781A-B291-40CE-A199-6F25F84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9D6F-FCB6-4B80-B550-8707D2F8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7DC5-6BAC-4D52-A7E4-47EBB789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116C-8657-4124-813E-23E08EA9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B01-43E5-45AD-B356-C3DB862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528-8C20-41E5-B331-DFC8BD7B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BB3-F686-4124-A451-6982ECF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EBF-8D3A-4CDB-B083-46C01BF3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238-CACA-46D3-A531-D78C2562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CC9-7C32-46F4-8420-5D031238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CE9-F1E0-4C8C-A183-300C3E6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B275-A87C-4B02-8437-CA8D69E5D81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82ED-B080-4C09-997F-E6CEBA44767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fcb4f"/>
                </a:solidFill>
                <a:latin typeface="Arial Rounded MT Bold"/>
              </a:rPr>
              <a:t>First Part</a:t>
            </a:r>
            <a:br>
              <a:rPr sz="5100"/>
            </a:br>
            <a:r>
              <a:rPr b="1" lang="en-US" sz="5100" spc="-1" strike="noStrike">
                <a:solidFill>
                  <a:srgbClr val="c4c3aa"/>
                </a:solidFill>
                <a:latin typeface="Arial Rounded MT Bold"/>
              </a:rPr>
              <a:t>WTO Pre to Current History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4038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r. Badri Pokhrel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oint Secret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nistry of Commerce and Suppli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2952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4c3aa"/>
                </a:solidFill>
                <a:latin typeface="Arial Rounded MT Bold"/>
              </a:rPr>
              <a:t>Principles of WTO 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ule based tra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de Without discrimin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F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ional 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r Trade, gradually through negoti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dictability, Through Binding and Transpar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ing fair compet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ouraging development and economic re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iproc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4c3aa"/>
                </a:solidFill>
                <a:latin typeface="Arial Rounded MT Bold"/>
              </a:rPr>
              <a:t>Key Functions of WTO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minister and Implement Trade Agreemen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forum for Trade negoti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ndle Trade disputes independentl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Trade Policies of the member countr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rdinate for TA and Cooperation with other agenc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4c3aa"/>
                </a:solidFill>
                <a:latin typeface="Arial Rounded MT Bold"/>
              </a:rPr>
              <a:t>Scope of WTO</a:t>
            </a:r>
            <a:endParaRPr b="0" lang="en-US" sz="6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rade in goo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rade in Serv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rade Related Intellectual Property Right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914400" y="2479680"/>
            <a:ext cx="7848000" cy="4023720"/>
            <a:chOff x="914400" y="2479680"/>
            <a:chExt cx="7848000" cy="4023720"/>
          </a:xfrm>
        </p:grpSpPr>
        <p:cxnSp>
          <p:nvCxnSpPr>
            <p:cNvPr id="357" name="_s43031"/>
            <p:cNvCxnSpPr>
              <a:stCxn id="358" idx="0"/>
              <a:endCxn id="359" idx="2"/>
            </p:cNvCxnSpPr>
            <p:nvPr/>
          </p:nvCxnSpPr>
          <p:spPr>
            <a:xfrm flipV="1" rot="16200000">
              <a:off x="7639560" y="5244480"/>
              <a:ext cx="503640" cy="2520"/>
            </a:xfrm>
            <a:prstGeom prst="bentConnector3">
              <a:avLst>
                <a:gd name="adj1" fmla="val 226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0" name="_s43027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3569760" y="5244480"/>
              <a:ext cx="503640" cy="2520"/>
            </a:xfrm>
            <a:prstGeom prst="bentConnector3">
              <a:avLst>
                <a:gd name="adj1" fmla="val 226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3" name="_s43025"/>
            <p:cNvCxnSpPr>
              <a:stCxn id="364" idx="0"/>
              <a:endCxn id="365" idx="2"/>
            </p:cNvCxnSpPr>
            <p:nvPr/>
          </p:nvCxnSpPr>
          <p:spPr>
            <a:xfrm flipV="1">
              <a:off x="1788120" y="4993920"/>
              <a:ext cx="2880" cy="503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6" name="_s43023"/>
            <p:cNvCxnSpPr>
              <a:stCxn id="359" idx="0"/>
              <a:endCxn id="367" idx="2"/>
            </p:cNvCxnSpPr>
            <p:nvPr/>
          </p:nvCxnSpPr>
          <p:spPr>
            <a:xfrm flipV="1" rot="16200000">
              <a:off x="6112440" y="2210400"/>
              <a:ext cx="503640" cy="3052440"/>
            </a:xfrm>
            <a:prstGeom prst="bentConnector3">
              <a:avLst>
                <a:gd name="adj1" fmla="val 226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8" name="_s43020"/>
            <p:cNvCxnSpPr>
              <a:stCxn id="369" idx="0"/>
              <a:endCxn id="367" idx="2"/>
            </p:cNvCxnSpPr>
            <p:nvPr/>
          </p:nvCxnSpPr>
          <p:spPr>
            <a:xfrm flipV="1" rot="16200000">
              <a:off x="5095080" y="3227760"/>
              <a:ext cx="503640" cy="1017720"/>
            </a:xfrm>
            <a:prstGeom prst="bentConnector3">
              <a:avLst>
                <a:gd name="adj1" fmla="val 226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0" name="_s43019"/>
            <p:cNvCxnSpPr>
              <a:stCxn id="362" idx="0"/>
              <a:endCxn id="367" idx="2"/>
            </p:cNvCxnSpPr>
            <p:nvPr/>
          </p:nvCxnSpPr>
          <p:spPr>
            <a:xfrm flipH="1" flipV="1" rot="5400000">
              <a:off x="4078080" y="3227760"/>
              <a:ext cx="503640" cy="1018080"/>
            </a:xfrm>
            <a:prstGeom prst="bentConnector3">
              <a:avLst>
                <a:gd name="adj1" fmla="val 226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1" name="_s43018"/>
            <p:cNvCxnSpPr>
              <a:stCxn id="365" idx="0"/>
              <a:endCxn id="367" idx="2"/>
            </p:cNvCxnSpPr>
            <p:nvPr/>
          </p:nvCxnSpPr>
          <p:spPr>
            <a:xfrm flipH="1" flipV="1" rot="5400000">
              <a:off x="3061440" y="2211120"/>
              <a:ext cx="503640" cy="3051000"/>
            </a:xfrm>
            <a:prstGeom prst="bentConnector3">
              <a:avLst>
                <a:gd name="adj1" fmla="val 226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67" name="_s43014"/>
            <p:cNvSpPr/>
            <p:nvPr/>
          </p:nvSpPr>
          <p:spPr>
            <a:xfrm>
              <a:off x="3966840" y="2479680"/>
              <a:ext cx="1743840" cy="100584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Rounded MT Bold"/>
                </a:rPr>
                <a:t>General Counci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_s43015"/>
            <p:cNvSpPr/>
            <p:nvPr/>
          </p:nvSpPr>
          <p:spPr>
            <a:xfrm>
              <a:off x="914400" y="3988440"/>
              <a:ext cx="1743840" cy="100584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Committees on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3016"/>
            <p:cNvSpPr/>
            <p:nvPr/>
          </p:nvSpPr>
          <p:spPr>
            <a:xfrm>
              <a:off x="2949120" y="3988440"/>
              <a:ext cx="1743840" cy="100584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Council for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Trade in good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_s43017"/>
            <p:cNvSpPr/>
            <p:nvPr/>
          </p:nvSpPr>
          <p:spPr>
            <a:xfrm>
              <a:off x="4983840" y="3988440"/>
              <a:ext cx="1743840" cy="100584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Council for Trade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related IP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_s43022"/>
            <p:cNvSpPr/>
            <p:nvPr/>
          </p:nvSpPr>
          <p:spPr>
            <a:xfrm>
              <a:off x="7018560" y="3988440"/>
              <a:ext cx="1743840" cy="100584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Council for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Trade in Servic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3024"/>
            <p:cNvSpPr/>
            <p:nvPr/>
          </p:nvSpPr>
          <p:spPr>
            <a:xfrm>
              <a:off x="916200" y="5497560"/>
              <a:ext cx="1742040" cy="100584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 Rounded MT Bold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Trade &amp;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	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- environment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	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- BOP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	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- Budget, Finance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	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 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&amp; Administratio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b. Working Parties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     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on accession 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Rounded MT Bold"/>
                </a:rPr>
                <a:t>c. Working group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3026"/>
            <p:cNvSpPr/>
            <p:nvPr/>
          </p:nvSpPr>
          <p:spPr>
            <a:xfrm>
              <a:off x="2950920" y="5497560"/>
              <a:ext cx="1742040" cy="100584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Committees on 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-Market acces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Agricultur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SP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TBT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ROO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Anti-dumpin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TRI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Rounded MT Bold"/>
                </a:rPr>
                <a:t>Safeguard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_s43030"/>
            <p:cNvSpPr/>
            <p:nvPr/>
          </p:nvSpPr>
          <p:spPr>
            <a:xfrm>
              <a:off x="7020360" y="5497560"/>
              <a:ext cx="1742040" cy="100584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Committees on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Finance Service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-Domestic Ru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Rounded MT Bold"/>
                </a:rPr>
                <a:t>- GATT Ru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743200" y="3808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70360" y="490680"/>
            <a:ext cx="2606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WTO Orga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1219320"/>
            <a:ext cx="1447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4400" y="106668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inisterial Conference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16765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190512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4c3aa"/>
                </a:solidFill>
                <a:latin typeface="Arial Rounded MT Bold"/>
              </a:rPr>
              <a:t>Membership System 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gnatory Countries untill Uruguay roun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reed countries from accession committe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tal member -15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DCs -32 out of 4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from accession –Nep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p to Uruguay Round -1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4c3aa"/>
                </a:solidFill>
                <a:latin typeface="Arial Rounded MT Bold"/>
              </a:rPr>
              <a:t>How to Define WTO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t is neither a bird, nor a plane and nor a superman- But –it is-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 organization for liberalizing Tra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orum for government to negotiation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de agreeme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lace for settle trade dispu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ystem of trade ru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 Rounded MT Bold"/>
              </a:rPr>
              <a:t>Nepal and WTO /A wish of Benefit</a:t>
            </a:r>
            <a:r>
              <a:rPr b="1" lang="en-US" sz="4400" spc="-1" strike="noStrike">
                <a:solidFill>
                  <a:srgbClr val="c4c3aa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ccess in global marke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F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ational Treatment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petition exerci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vailability of International foru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DCs’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Verdana"/>
              </a:rPr>
              <a:t>Thank You </a:t>
            </a:r>
            <a:endParaRPr b="0" lang="en-US" sz="15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4c3aa"/>
                </a:solidFill>
                <a:latin typeface="Arial Rounded MT Bold"/>
              </a:rPr>
              <a:t>Outlines</a:t>
            </a:r>
            <a:endParaRPr b="0" lang="en-US" sz="7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limpse of World economy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istory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at Depression of 1930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ld Wa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shall Pla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tton Woods Conferen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O       GAT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TO, Its objec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o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02920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4c3aa"/>
                </a:solidFill>
                <a:latin typeface="Arial Rounded MT Bold"/>
              </a:rPr>
              <a:t>World Economy</a:t>
            </a:r>
            <a:r>
              <a:rPr b="0" lang="en-US" sz="60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italistic domin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-National companies are more powerful rather than individual count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obal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 dependenc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growing econom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ever, some pre-dominant factors/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 Rounded MT Bold"/>
              </a:rPr>
              <a:t>Eco-Political great events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Glimpse of World economy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Laissez faire to State Controlled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vent of Keyn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Classical/Neoclassical to Moder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ll of Soviet Un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End of Cold War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c3aa"/>
                </a:solidFill>
                <a:latin typeface="Arial Rounded MT Bold"/>
              </a:rPr>
              <a:t>Search of Safety rooms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DC,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litary Alliences-NATO, SEATO,(Western block) and Warsaw Pact (Soviet-bloc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nchasheel/N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cept of Self Sust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lateral Strengt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tection of regional umbrel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ADB,SAARC,BIMSTE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 Rounded MT Bold"/>
              </a:rPr>
              <a:t>Important events/Eve of W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44-Bretton Woods Conference for WB, IMF and I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47-23 Countries contracting parties signed in Hawana on GAT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llternative to IT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ssed Through various rounds of negotiation: annecy (France), Torquay (UK), Tokyo (Japan), Punta del Este (Uruguay), Montreal (Canada), Brussels (Belgium) and Marrakesh (Morocc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4c3aa"/>
                </a:solidFill>
                <a:latin typeface="Arial Rounded MT Bold"/>
              </a:rPr>
              <a:t>Eve to WTO</a:t>
            </a:r>
            <a:r>
              <a:rPr b="0" lang="en-US" sz="6000" spc="-1" strike="noStrike">
                <a:solidFill>
                  <a:srgbClr val="c4c3aa"/>
                </a:solidFill>
                <a:latin typeface="Arial Rounded MT Bold"/>
              </a:rPr>
              <a:t> 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GATT Trade Round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47 Genev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Tariff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49 Annec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Tariff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51 Torqu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Tariff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56 Geneva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Tariff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60/61 Geneva(Dillion Round):Tarif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4c3aa"/>
                </a:solidFill>
                <a:latin typeface="Arial Rounded MT Bold"/>
              </a:rPr>
              <a:t>Contd. 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64/67 Geneva (Kennedy Round) :Tariffs and Anti-dumping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73-79 Geneva (Tokyo) Round :Tariffs, non Tariff measures, Framework agreement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6-94 Geneva (Uruguay Round) :Tariffs non Tariff measures, Rules, Services, IPR, Dispute Settlement, Textile, Agricultural, Creation of WTO etc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5 Establishment of WTO (1995 Jan 1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4c3aa"/>
                </a:solidFill>
                <a:latin typeface="Arial Rounded MT Bold"/>
              </a:rPr>
              <a:t>Objectives of WTO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ising Standard of Liv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suring Full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nding the production of goods and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ing Sustainable developme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ough expanding the production of Trade in goods and services while allowing for  the optimal use of the world’s re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cting and preserving the environ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5:13:10Z</dcterms:created>
  <dc:creator>Daya</dc:creator>
  <dc:description/>
  <dc:language>en-US</dc:language>
  <cp:lastModifiedBy>ECIBON</cp:lastModifiedBy>
  <dcterms:modified xsi:type="dcterms:W3CDTF">2009-03-21T04:28:58Z</dcterms:modified>
  <cp:revision>63</cp:revision>
  <dc:subject/>
  <dc:title>WTO Pre to Current History</dc:title>
</cp:coreProperties>
</file>