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F5F7-FA2B-407B-B8A8-9B470CA09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C2CF-63A6-4390-B508-4DFD1234F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FA60-8460-49F1-88FC-8DADB8D75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1120-25AA-4050-86B3-5EBC81B57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0FD9-388B-4104-830C-92094026D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803F-A899-4810-9805-2BC089CDB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6B9D-E5BC-4402-9BED-28B1C951F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9222-047D-4E68-AD9D-2C93EE4B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9AF4-03C2-4229-83B7-8C7A3AC1C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5864-17C2-4C0A-8573-497DBD5C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90D8-8929-4060-A725-E7D3D653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9FEA-90E2-422C-BA6B-B7B23B94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3C5D2-06B7-4C2D-8FD6-AE69E4062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2400" spc="-1" strike="noStrike">
                <a:solidFill>
                  <a:srgbClr val="009999"/>
                </a:solidFill>
                <a:latin typeface="Arial Black"/>
              </a:rPr>
              <a:t>Enhancing the Capacity of Intermediary Business Organizations in Nepal” </a:t>
            </a:r>
            <a:br>
              <a:rPr sz="2400"/>
            </a:br>
            <a:r>
              <a:rPr b="0" lang="en-US" sz="2400" spc="-1" strike="noStrike">
                <a:solidFill>
                  <a:srgbClr val="009999"/>
                </a:solidFill>
                <a:latin typeface="Arial Black"/>
              </a:rPr>
              <a:t>(ECIBON)</a:t>
            </a:r>
            <a:br>
              <a:rPr sz="3200"/>
            </a:br>
            <a:r>
              <a:rPr b="0" lang="en-US" sz="1600" spc="-1" strike="noStrike">
                <a:solidFill>
                  <a:srgbClr val="009999"/>
                </a:solidFill>
                <a:latin typeface="Arial Black"/>
              </a:rPr>
              <a:t>Project funded by the European Union</a:t>
            </a:r>
            <a:br>
              <a:rPr sz="1600"/>
            </a:br>
            <a:r>
              <a:rPr b="0" lang="en-US" sz="1600" spc="-1" strike="noStrike">
                <a:solidFill>
                  <a:srgbClr val="009999"/>
                </a:solidFill>
                <a:latin typeface="Arial Black"/>
              </a:rPr>
              <a:t>Implemented by EEC-Nepal</a:t>
            </a:r>
            <a:br>
              <a:rPr sz="1600"/>
            </a:br>
            <a:br>
              <a:rPr sz="1600"/>
            </a:br>
            <a:br>
              <a:rPr sz="32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1828800"/>
            <a:ext cx="9144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Welcomes Distinguished Guests 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Training 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‘</a:t>
            </a:r>
            <a:r>
              <a:rPr b="1" lang="da-DK" sz="1600" spc="-1" strike="noStrike">
                <a:solidFill>
                  <a:srgbClr val="009999"/>
                </a:solidFill>
                <a:latin typeface="Arial"/>
              </a:rPr>
              <a:t>EU / WTO Quality and Social Standard Issues’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Conducted b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009999"/>
                </a:solidFill>
                <a:latin typeface="Arial"/>
              </a:rPr>
              <a:t>Dr. Badri Pokhr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Mr. Jayendra Ri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16 – 17 April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Hosted b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Lalitpur Handicraft Associ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Venue:  Staff College, Jawalakhel, Lalitpu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 Narrow"/>
              </a:rPr>
              <a:t>Project Partner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F:\Arun Kattel - Preparation for project implimentation\Partner's LOGO\Project With Logo\Invest_Reversed_1.jpg"/>
          <p:cNvPicPr/>
          <p:nvPr/>
        </p:nvPicPr>
        <p:blipFill>
          <a:blip r:embed="rId1"/>
          <a:stretch/>
        </p:blipFill>
        <p:spPr>
          <a:xfrm>
            <a:off x="57240" y="142920"/>
            <a:ext cx="939600" cy="933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F:\Arun Kattel - Preparation for project implimentation\Partner's LOGO\Danish federation.JPG"/>
          <p:cNvPicPr/>
          <p:nvPr/>
        </p:nvPicPr>
        <p:blipFill>
          <a:blip r:embed="rId2"/>
          <a:stretch/>
        </p:blipFill>
        <p:spPr>
          <a:xfrm>
            <a:off x="4114800" y="5451480"/>
            <a:ext cx="554040" cy="1406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F:\Arun Kattel - Preparation for project implimentation\Partner's LOGO\FNCSIN LOGO 3.JPG"/>
          <p:cNvPicPr/>
          <p:nvPr/>
        </p:nvPicPr>
        <p:blipFill>
          <a:blip r:embed="rId3"/>
          <a:stretch/>
        </p:blipFill>
        <p:spPr>
          <a:xfrm>
            <a:off x="685800" y="5398920"/>
            <a:ext cx="781200" cy="1459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C:\Documents and Settings\All Users\Documents\Logos of ECIBON Partners\LCCI reversed_black.jpg"/>
          <p:cNvPicPr/>
          <p:nvPr/>
        </p:nvPicPr>
        <p:blipFill>
          <a:blip r:embed="rId4"/>
          <a:stretch/>
        </p:blipFill>
        <p:spPr>
          <a:xfrm>
            <a:off x="6039000" y="6095880"/>
            <a:ext cx="3057480" cy="709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"/>
          <p:cNvPicPr/>
          <p:nvPr/>
        </p:nvPicPr>
        <p:blipFill>
          <a:blip r:embed="rId5"/>
          <a:stretch/>
        </p:blipFill>
        <p:spPr>
          <a:xfrm>
            <a:off x="7772400" y="171360"/>
            <a:ext cx="1314360" cy="982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7:45:26Z</dcterms:created>
  <dc:creator>user</dc:creator>
  <dc:description/>
  <dc:language>en-US</dc:language>
  <cp:lastModifiedBy>ECIBON</cp:lastModifiedBy>
  <dcterms:modified xsi:type="dcterms:W3CDTF">2009-04-16T08:20:03Z</dcterms:modified>
  <cp:revision>5</cp:revision>
  <dc:subject/>
  <dc:title> Enhancing the Capacity of Intermediary Business Organizations in Nepal”  (ECIBON) Project funded by the European Union Implemented by EEC-Nepal   </dc:title>
</cp:coreProperties>
</file>