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B56A-3485-4717-87A4-A92A8C895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151E-CE96-49DD-AAF9-D771BCAB3D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estion and answer process. The market plan asks and answers the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OW DO WE GET THERE FROM BERE?" (Just like planning a family trip/vacatio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HOW A AAA TRIP TIX WORKS FOR YOU ON A VACATION.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4C3-FD1F-45D5-A3C4-DFF35BD5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5E6-3263-4109-8208-E401AD7B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1DFA-A5ED-4CFF-AE9A-C233AE7D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4CE-D32C-4ADB-B74E-E3D46A92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37A2-26C2-434D-8B38-248C4BC9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AAA8-DA0F-499F-99E8-5298C98D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622A-69A5-4FD0-8E91-3652AE88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4578-658E-4F16-9F1B-3859ACA2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0AC3-028A-4A0B-91C6-DA7D8169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3E4B-FF13-4699-8346-8DEC61F5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8E5D-8961-4141-9393-EE750CFD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158-C206-482B-87C2-23CC2485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C2B3-23AE-4483-9088-0F242F67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3520-9E09-4E01-88B6-26123666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A9C5-AA37-463C-8CA8-3789B8D3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1B0F-FFF6-47F4-8FD3-EDD9DEB9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C391-2F7B-4CCD-87AC-79AFAB1F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3182-C650-49F3-8A8B-3AE4AF93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E23-6E7D-404D-B14B-8529699B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BA60-C69C-4794-A6AD-D4EA49E5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B00A-2EE4-495E-82CE-ED52BDFB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714-5A8C-4827-8500-A54E00A3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986-4B62-4FE9-8DF8-91646DF3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6CC2-2756-4C7A-9B58-7BD35DFC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129280" y="2236680"/>
                <a:ext cx="3645000" cy="23320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1AEE-37AD-4C73-BC11-F74673F65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Group 4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>
                <a:off x="5129280" y="2236680"/>
                <a:ext cx="3645000" cy="23320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C6E5-AA61-440E-BF9F-DFE57899A0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udge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Marketing Plan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lvl="2" marL="445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445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445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yendra Rima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445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yendra@mdynamics.com.np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6248520" y="4495680"/>
            <a:ext cx="2512800" cy="2362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606680" cy="1447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0" y="4454640"/>
            <a:ext cx="397656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Prepare Comprehensive Fact Bas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Market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Trend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Products, servic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618240" y="4267080"/>
            <a:ext cx="2525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Prepare Comprehensive Fact Bas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mpetition: The competitive landscap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ovide an overview of product competitors, their strengths and weakness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sition each competitor’s product against new produc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019920" y="4800600"/>
            <a:ext cx="2525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Prepare Comprehensive Fact Bas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livery inventor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stribution, sales forc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ustomer attitud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ustomer communication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019920" y="4800600"/>
            <a:ext cx="2525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 List Problems and Opportunities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2960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ahoma"/>
              </a:rPr>
              <a:t>2. List Problems and Opportunities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Identify problems ….hurdl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viation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terrent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stacl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3200" spc="-1" strike="noStrike">
                <a:solidFill>
                  <a:srgbClr val="e5e5ff"/>
                </a:solidFill>
                <a:latin typeface="Tahoma"/>
              </a:rPr>
              <a:t>Identify Problems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viations from anticipated deterrents to the obstacles to achievement of goal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7010280" y="449568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ahoma"/>
              </a:rPr>
              <a:t>Problems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oblem versus symptom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dustry &amp; compan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lvabl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lvi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 contro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5383080" y="4251240"/>
            <a:ext cx="376092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. State Specific Objective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1" lang="en-US" sz="4000" spc="-1" strike="noStrike">
              <a:solidFill>
                <a:srgbClr val="e5e5ff"/>
              </a:solidFill>
              <a:latin typeface="Palatino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77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. State Specifics Objectives  </a:t>
            </a:r>
            <a:br>
              <a:rPr sz="36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irst….State your assumptions</a:t>
            </a:r>
            <a:endParaRPr b="1" lang="en-US" sz="28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95280" y="20570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581280" y="5105520"/>
            <a:ext cx="18226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ou first aim at establishing your objectives and then at accomplishing them!!!!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419076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ing your Marketing Plan</a:t>
            </a:r>
            <a:br>
              <a:rPr sz="3200"/>
            </a:br>
            <a:r>
              <a:rPr b="1" lang="en-US" sz="6000" spc="-1" strike="noStrike">
                <a:solidFill>
                  <a:srgbClr val="e5e5ff"/>
                </a:solidFill>
                <a:latin typeface="Times New Roman"/>
              </a:rPr>
              <a:t> </a:t>
            </a:r>
            <a:br>
              <a:rPr sz="2000"/>
            </a:b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6840" y="2209680"/>
            <a:ext cx="83818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market plan asks and answers the question: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"HOW DO WE GET FROM HERE TO THERE?“ </a:t>
            </a: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2365560" cy="2022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6477120" y="4113360"/>
            <a:ext cx="2340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. State Specific Objectives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628560" y="1371600"/>
          <a:ext cx="8012160" cy="53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371600"/>
                    <a:ext cx="801216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ahoma"/>
              </a:rPr>
              <a:t>Success Metrics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irst year goal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dditional year goal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easures of success/failur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quirements for succes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4. Develop Strategy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pecific activiti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our  call to act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109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1092240" indent="-40644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sponsibilit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1092240" indent="-40644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adlin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1092240" indent="-40644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ioriti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1092240" indent="-40644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sourc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7315200" y="23623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7238880" y="4648320"/>
            <a:ext cx="1408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ahoma"/>
              </a:rPr>
              <a:t>Strategy </a:t>
            </a:r>
            <a:r>
              <a:rPr b="0" lang="en-US" sz="2800" spc="-1" strike="noStrike">
                <a:solidFill>
                  <a:srgbClr val="e5e5ff"/>
                </a:solidFill>
                <a:latin typeface="Tahoma"/>
              </a:rPr>
              <a:t>(cont)</a:t>
            </a:r>
            <a:endParaRPr b="1" lang="en-US" sz="28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Three must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eet deadlin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trol performanc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locate resourc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0" y="4375080"/>
            <a:ext cx="2209680" cy="2338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4879800" y="4495680"/>
            <a:ext cx="4264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ategy Analysis and Evaluation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. Internal compatibilit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. External compatibilit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. Resource availabilit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. Risk factor</a:t>
            </a:r>
            <a:br>
              <a:rPr sz="6000"/>
            </a:br>
            <a:br>
              <a:rPr sz="6000"/>
            </a:br>
            <a:endParaRPr b="1" lang="en-US" sz="28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802480" y="3581280"/>
            <a:ext cx="334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LEMENTS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1. MARKET TARGETS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60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ic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oduc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lac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omo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litics</a:t>
            </a:r>
            <a:br>
              <a:rPr sz="6000"/>
            </a:br>
            <a:endParaRPr b="1" lang="en-US" sz="28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95280" y="228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Marketing Mix (the 5 P’s)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236232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ahoma"/>
              </a:rPr>
              <a:t>Product Positioning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sitioning of product or servic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atement that distinctly defines the product in its market and against its competition over tim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umer promis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atement summarizing the benefit of the product or service to the consume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ahoma"/>
              </a:rPr>
              <a:t>Product Packaging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oduct packagi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scuss form-factor, pricing, look, strateg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scuss fulfillment issues for items not shipped directly with produc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ahoma"/>
              </a:rPr>
              <a:t>Promotional (Communication) Strategies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essaging by audienc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arget consumer demographic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ahoma"/>
              </a:rPr>
              <a:t>Product Launch Strategies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aunch pla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product is being announc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omotion budge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upply back up material with detailed budget information for review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ahoma"/>
                <a:ea typeface="Tahoma"/>
              </a:rPr>
              <a:t>The Trip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671760" indent="-44784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WHERE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re we new?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671760" indent="-44784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WH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re we leaving?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671760" indent="-44784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WHERE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hould we go?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671760" indent="-44784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O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will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o the drivi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671760" indent="-44784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WHERE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ave we decided to go?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671760" indent="-44784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Y are we going?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671760" indent="-44784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WHA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re the conditions which may affect us?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671760" indent="-44784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are we going?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671760" indent="-44784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uch will the trip cost?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671760" indent="-44784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will we meet our progres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671760" indent="-44784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WHA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our plan for alternate routes? Against our schedule? (Contingency plan)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846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2622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ahoma"/>
              </a:rPr>
              <a:t>Public Relations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rategy &amp; execut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 strategi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 plan highlight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ave backup PR plan including editorial calendars, speaking engagements, conference schedules, etc.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ahoma"/>
              </a:rPr>
              <a:t>Advertising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trategy &amp; execut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Overview of strateg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Overview of media &amp; timi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Overview of ad spendi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ahoma"/>
              </a:rPr>
              <a:t>Other Promotion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Direct marketi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Overview of strategy, vehicles &amp; timi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Overview of response targets, goals &amp; budge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Third-party marketi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Co-marketing arrangements with other compani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Marketing program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Other promotional program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ahoma"/>
              </a:rPr>
              <a:t>International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rnational distribut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ddress distribution strategi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scuss issues specific to international distribut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rnational pricing strateg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ocalization issu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ighlight requirements for local product variation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ahoma"/>
              </a:rPr>
              <a:t>Pricing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ici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ummarize specific pricing or pricing strategi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mpare to similar product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lici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ummarize policy relevant to understanding key pricing issu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ahoma"/>
              </a:rPr>
              <a:t>Place - Distribution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stribution strateg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hannels of distribut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ummarize channels of distribut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ahoma"/>
              </a:rPr>
              <a:t>Product Schedule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2-month schedule highlight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5. Establish Budget</a:t>
            </a:r>
            <a:br>
              <a:rPr sz="6000"/>
            </a:br>
            <a:br>
              <a:rPr sz="6000"/>
            </a:b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Budget Follows Strategy</a:t>
            </a:r>
            <a:br>
              <a:rPr sz="6000"/>
            </a:br>
            <a:endParaRPr b="1" lang="en-US" sz="28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447920" y="2133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Palatino"/>
              </a:rPr>
              <a:t>$$$$$$$$$$$$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sources &amp; time!!!!!!!!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152280" y="3505320"/>
            <a:ext cx="1640160" cy="3165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6477120" y="472428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ahoma"/>
              </a:rPr>
              <a:t>Budget </a:t>
            </a:r>
            <a:r>
              <a:rPr b="0" lang="en-US" sz="2800" spc="-1" strike="noStrike">
                <a:solidFill>
                  <a:srgbClr val="e5e5ff"/>
                </a:solidFill>
                <a:latin typeface="Tahoma"/>
              </a:rPr>
              <a:t>(cont)</a:t>
            </a:r>
            <a:endParaRPr b="1" lang="en-US" sz="28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cisions,,,  money$$$$$$$$$???????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ganize by marketing function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Versatility and contro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ercising control is managin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5961240" y="3436920"/>
            <a:ext cx="31827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Project Sales and Profi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ecas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3428640"/>
            <a:ext cx="8534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5415120" cy="42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ahoma"/>
              </a:rPr>
              <a:t>Plan should be comprehensive but not complicated</a:t>
            </a:r>
            <a:r>
              <a:rPr b="1" lang="en-US" sz="3600" spc="-1" strike="noStrike">
                <a:solidFill>
                  <a:srgbClr val="e5e5ff"/>
                </a:solidFill>
                <a:latin typeface="Tahoma"/>
              </a:rPr>
              <a:t>.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ten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ersons not involved in the authorship SHOUL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e able to follow the planning logic and readily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certain their responsibilities.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some steps in developing an operational marketing plan.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7238880" y="49528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ahoma"/>
              </a:rPr>
              <a:t>Implement and Review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view your marketing plan at least monthly!!!!</a:t>
            </a:r>
            <a:r>
              <a:rPr b="0" lang="en-US" sz="3200" spc="-1" strike="noStrike">
                <a:solidFill>
                  <a:srgbClr val="ffff00"/>
                </a:solidFill>
                <a:latin typeface="Palatino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Palatino"/>
              </a:rPr>
              <a:t>$$$$$$$$$$$$$$$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2338560" cy="2106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6477120" y="4508640"/>
            <a:ext cx="2439720" cy="2085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3"/>
          <a:stretch/>
        </p:blipFill>
        <p:spPr>
          <a:xfrm>
            <a:off x="2514600" y="3048120"/>
            <a:ext cx="397656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Marketing Plan</a:t>
            </a:r>
            <a:r>
              <a:rPr b="1" lang="en-US" sz="4400" spc="-1" strike="noStrike">
                <a:solidFill>
                  <a:srgbClr val="ffffff"/>
                </a:solidFill>
                <a:latin typeface="Palatino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ou first aim at establishing your objectives and then at accomplishing them!!!!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429000" y="230364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7162920" y="4800600"/>
            <a:ext cx="1806480" cy="18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Object 0"/>
          <p:cNvGraphicFramePr/>
          <p:nvPr/>
        </p:nvGraphicFramePr>
        <p:xfrm>
          <a:off x="1447920" y="2743200"/>
          <a:ext cx="5689440" cy="2971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743200"/>
                    <a:ext cx="56894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ANK YOU!!!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ahoma"/>
              </a:rPr>
              <a:t>Stages in Developing an Operational Marketing Plan.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scription of the product or service, including special features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rketing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budge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ncluding the advertising and promotional plan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scription of the business location, including advantages and disadvantages for marketing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icing strategy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rket Segmentation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Aims and Objectives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Your First Aim is to Establishing Your Objectives and then Accomplishing Them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6629400" y="4551480"/>
            <a:ext cx="22114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tailing the steps…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. Prepare comprehensive fact base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Palatino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514600" y="3065400"/>
            <a:ext cx="397656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Prepare Comprehensive Fact Base</a:t>
            </a:r>
            <a:br>
              <a:rPr sz="4000"/>
            </a:b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1st.... General business purpos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al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rket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rend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oducts, servic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livery inventor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stribution, sales forc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ustomer attitud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ustomer communication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7391520" y="4800600"/>
            <a:ext cx="1535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1. Prepare Comprehensive Fact Bas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ales and profit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12 months runni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3-5 year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629400" y="4267080"/>
            <a:ext cx="1992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4:08:56Z</dcterms:created>
  <dc:creator>Lindell Chew</dc:creator>
  <dc:description/>
  <dc:language>en-US</dc:language>
  <cp:lastModifiedBy>NEW</cp:lastModifiedBy>
  <dcterms:modified xsi:type="dcterms:W3CDTF">2008-11-02T06:35:39Z</dcterms:modified>
  <cp:revision>363</cp:revision>
  <dc:subject/>
  <dc:title>THE MARKETING PLAN- L.P.CHEW </dc:title>
</cp:coreProperties>
</file>