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FA6C-41C9-4D15-8A85-46A2E5A5D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09023000  http://exporthelp.europa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formation also available on the Export Helpdesk http://exporthelp.europa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belling: Origin, authorised material names, address manufacturer, care instructions, language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chapter on Export Helpde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carves: 6214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690720"/>
            <a:ext cx="822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1040" y="177300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69072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41040" y="369072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264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6440" y="1773000"/>
            <a:ext cx="264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8880" y="1773000"/>
            <a:ext cx="264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690720"/>
            <a:ext cx="264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6440" y="3690720"/>
            <a:ext cx="264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8880" y="3690720"/>
            <a:ext cx="264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15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41040" y="1773000"/>
            <a:ext cx="4015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5976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1040" y="1773000"/>
            <a:ext cx="4015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69072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15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41040" y="177300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41040" y="369072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993960"/>
            <a:ext cx="59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41040" y="1773000"/>
            <a:ext cx="4015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690720"/>
            <a:ext cx="822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492360" y="6021360"/>
            <a:ext cx="1873440" cy="387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24000" y="5589720"/>
            <a:ext cx="85690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rcRect l="0" t="21190" r="0" b="14332"/>
          <a:stretch/>
        </p:blipFill>
        <p:spPr>
          <a:xfrm>
            <a:off x="58680" y="115920"/>
            <a:ext cx="9085320" cy="79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59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40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250920" y="5661000"/>
            <a:ext cx="1123920" cy="10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chamber.co.uk/lcc_public/default.asp?id=866" TargetMode="External"/><Relationship Id="rId2" Type="http://schemas.openxmlformats.org/officeDocument/2006/relationships/hyperlink" Target="http://www.londonchamber.co.uk/lcc_public/default.asp?id=866" TargetMode="External"/><Relationship Id="rId3" Type="http://schemas.openxmlformats.org/officeDocument/2006/relationships/hyperlink" Target="http://www.londonchamber.co.uk/lcc_public/default.asp?id=260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49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don Innovation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don-based Enterprise Europe Network</a:t>
            </a:r>
            <a:br>
              <a:rPr sz="3200"/>
            </a:br>
            <a:br>
              <a:rPr sz="1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ondon Chamber of Commer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ondon Technology 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e Innovato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reater London Enterpr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and support for SMEs on EU and trade issues, fund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360" y="6021360"/>
            <a:ext cx="1873440" cy="38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36000" y="2421000"/>
            <a:ext cx="1368360" cy="282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24720" y="2852640"/>
            <a:ext cx="1081080" cy="81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88000" y="270828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804000" y="3573360"/>
            <a:ext cx="144936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59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xample qu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 are the requirements for exporting tea to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would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riffs, rules of origin, labelling, specific requirements, for that sector, e.g. use of pesticides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53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prise Europe Network at London Chamber:</a:t>
            </a:r>
            <a:br>
              <a:rPr sz="2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earch and Enquiry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and advice on European issues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egisl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mport and expor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cument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to a Europe-wide network with 500 local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53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prise Europe Network at London Chamber :</a:t>
            </a:r>
            <a:br>
              <a:rPr sz="20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nder Monitoring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64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itors thousands of public sector tend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vant tenders sent to companies in daily 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53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prise Europe Network at London Chamber:</a:t>
            </a:r>
            <a:br>
              <a:rPr sz="20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K and European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 advice ser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‘Grantfinder’ database with 6,000 EU and UK funding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programmes, grants and loa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onsultation with funding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ised advice on FP7 and other EU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497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prise Europe Network at London Chamber:</a:t>
            </a:r>
            <a:br>
              <a:rPr sz="20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siness Opportunities 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semination of company profile and partner search on Europe-wid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-monthly business opportunities bull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ilor-made search for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497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prise Europe Network at London Chamber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tnightly bulletin on EU news and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ics:</a:t>
            </a:r>
            <a:br>
              <a:rPr sz="3200"/>
            </a:br>
            <a:br>
              <a:rPr sz="1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ss releas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egisl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onsulta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unding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2436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497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prise Europe Network at London Chamber :</a:t>
            </a:r>
            <a:br>
              <a:rPr sz="28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fu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untry profiles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European markets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ncluding business opportun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ctsheets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.g. on EU funding, CE marking, product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ts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.g. on business opportunities on EU markets, EU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legislation and cons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nquiry service in detail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fu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 and Trade queries (CTP): Export Helpdesk for information to ex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U (tariffs, statistics, business opportu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Europe Business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requirements for certain products: info on department websites like DEFRA for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EU legislation (call us) or via Scad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Business partners: EEN Network, LBM (limited space) Kellysearch, Kompass, Yellow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59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xample qu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 are the requirements for exporting scarves to the E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would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riffs, rules of origin, labelling, specific requirements, for that sector, e.g. use of chemicals for colouring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2:02:01Z</dcterms:created>
  <dc:creator>meshachm</dc:creator>
  <dc:description/>
  <dc:language>en-US</dc:language>
  <cp:lastModifiedBy>Temp</cp:lastModifiedBy>
  <dcterms:modified xsi:type="dcterms:W3CDTF">2009-01-21T15:09:25Z</dcterms:modified>
  <cp:revision>55</cp:revision>
  <dc:subject/>
  <dc:title>Slide 1</dc:title>
</cp:coreProperties>
</file>