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34E-B143-4C18-A7EB-E5A1BE6C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2D6E-8980-4290-9C21-D95B22DC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B64-2B63-41F9-9B4C-EDA8EFAB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648-8B46-4F2D-88F1-3931391A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224-74B5-4919-8C20-515DA39A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664-B858-44E9-BE8A-849C2734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33A-2C59-46E1-95F3-9CB2EE7C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F25-9EBD-4192-AC08-E306BCC0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443-FBA3-495C-939C-22E0D2D4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D49-941D-4396-9A97-D89D278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511-13C3-4796-BFC4-64A0863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F6C-A7F5-4BFC-9ACB-570A81BC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42F9-C154-4166-8971-61FCED21C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4f81bd"/>
                </a:solidFill>
                <a:latin typeface="Arial Black"/>
              </a:rPr>
              <a:t>Enhancing the Capacity of Intermediary Business Organizations in Nepal” </a:t>
            </a:r>
            <a:br>
              <a:rPr sz="2400"/>
            </a:br>
            <a:r>
              <a:rPr b="0" lang="en-US" sz="2400" spc="-1" strike="noStrike">
                <a:solidFill>
                  <a:srgbClr val="4f81bd"/>
                </a:solidFill>
                <a:latin typeface="Arial Black"/>
              </a:rPr>
              <a:t>(ECIBON)</a:t>
            </a:r>
            <a:br>
              <a:rPr sz="3200"/>
            </a:br>
            <a:r>
              <a:rPr b="0" lang="en-US" sz="1600" spc="-1" strike="noStrike">
                <a:solidFill>
                  <a:srgbClr val="4f81bd"/>
                </a:solidFill>
                <a:latin typeface="Arial Black"/>
              </a:rPr>
              <a:t>Project funded by the European Union</a:t>
            </a:r>
            <a:br>
              <a:rPr sz="1600"/>
            </a:br>
            <a:r>
              <a:rPr b="0" lang="en-US" sz="1600" spc="-1" strike="noStrike">
                <a:solidFill>
                  <a:srgbClr val="4f81bd"/>
                </a:solidFill>
                <a:latin typeface="Arial Black"/>
              </a:rPr>
              <a:t>Implemented by EEC-Nepal</a:t>
            </a:r>
            <a:br>
              <a:rPr sz="1600"/>
            </a:br>
            <a:br>
              <a:rPr sz="1600"/>
            </a:b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 Black"/>
              </a:rPr>
              <a:t>Meeting for Nepalese IB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Arial Black"/>
              </a:rPr>
              <a:t>to establish an IBO-net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16 &amp; 17 January, 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Arial Narrow"/>
              </a:rPr>
              <a:t>Banquet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Arial Narrow"/>
              </a:rPr>
              <a:t>Uttar Dhoka Sadak, Lainchour, Kathman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Narrow"/>
              </a:rPr>
              <a:t>Project Partn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F:\Arun Kattel - Preparation for project implimentation\Partner's LOGO\Project With Logo\Invest_Reversed_1.jpg"/>
          <p:cNvPicPr/>
          <p:nvPr/>
        </p:nvPicPr>
        <p:blipFill>
          <a:blip r:embed="rId1"/>
          <a:stretch/>
        </p:blipFill>
        <p:spPr>
          <a:xfrm>
            <a:off x="57240" y="142920"/>
            <a:ext cx="939600" cy="933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F:\Arun Kattel - Preparation for project implimentation\Partner's LOGO\Danish federation.JPG"/>
          <p:cNvPicPr/>
          <p:nvPr/>
        </p:nvPicPr>
        <p:blipFill>
          <a:blip r:embed="rId2"/>
          <a:stretch/>
        </p:blipFill>
        <p:spPr>
          <a:xfrm>
            <a:off x="4780080" y="5394240"/>
            <a:ext cx="554040" cy="1406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F:\Arun Kattel - Preparation for project implimentation\Partner's LOGO\FNCSIN LOGO 3.JPG"/>
          <p:cNvPicPr/>
          <p:nvPr/>
        </p:nvPicPr>
        <p:blipFill>
          <a:blip r:embed="rId3"/>
          <a:stretch/>
        </p:blipFill>
        <p:spPr>
          <a:xfrm>
            <a:off x="2800440" y="5342040"/>
            <a:ext cx="780840" cy="145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All Users\Documents\Logos of ECIBON Partners\LCCI reversed_black.jpg"/>
          <p:cNvPicPr/>
          <p:nvPr/>
        </p:nvPicPr>
        <p:blipFill>
          <a:blip r:embed="rId4"/>
          <a:stretch/>
        </p:blipFill>
        <p:spPr>
          <a:xfrm>
            <a:off x="6039000" y="6095880"/>
            <a:ext cx="3057480" cy="709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All Users\Documents\Logos of ECIBON Partners\engelsk ce 4-fŠrg..jpg"/>
          <p:cNvPicPr/>
          <p:nvPr/>
        </p:nvPicPr>
        <p:blipFill>
          <a:blip r:embed="rId5"/>
          <a:stretch/>
        </p:blipFill>
        <p:spPr>
          <a:xfrm>
            <a:off x="57240" y="5676840"/>
            <a:ext cx="2235240" cy="10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6"/>
          <a:stretch/>
        </p:blipFill>
        <p:spPr>
          <a:xfrm>
            <a:off x="7772400" y="171360"/>
            <a:ext cx="13143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7:48:21Z</dcterms:created>
  <dc:creator>user</dc:creator>
  <dc:description/>
  <dc:language>en-US</dc:language>
  <cp:lastModifiedBy>Pravakar Rana</cp:lastModifiedBy>
  <dcterms:modified xsi:type="dcterms:W3CDTF">2008-01-06T20:12:59Z</dcterms:modified>
  <cp:revision>29</cp:revision>
  <dc:subject/>
  <dc:title>Slide 1</dc:title>
</cp:coreProperties>
</file>