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879-7B96-41B8-BA90-8F8499E5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21E-F939-41FE-BC58-C9E7BBE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2A9-243E-4297-A22F-08BDE486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E42-CC4F-468A-A7B0-BB3E9506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40C-742F-4E85-AC5E-389F6416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36D-15B9-4FD4-B71E-59BB3568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4D4-D03F-4F43-B58C-22E5455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754-C891-451A-861C-D05D3439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10C-1748-46D3-BCD9-9099891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89A-573C-41A6-8A38-163FAE9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4BD-A844-4C4E-BFAE-9F52DD78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CD0-2B4D-4520-9A37-09125D9E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99AD-4DCA-4EFC-BA0E-386698CF9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4f81bd"/>
                </a:solidFill>
                <a:latin typeface="Arial Black"/>
              </a:rPr>
              <a:t>Enhancing the Capacity of Intermediary Business Organizations in Nepal” </a:t>
            </a:r>
            <a:br>
              <a:rPr sz="2400"/>
            </a:br>
            <a:r>
              <a:rPr b="0" lang="en-US" sz="2400" spc="-1" strike="noStrike">
                <a:solidFill>
                  <a:srgbClr val="4f81bd"/>
                </a:solidFill>
                <a:latin typeface="Arial Black"/>
              </a:rPr>
              <a:t>(ECIBON)</a:t>
            </a:r>
            <a:br>
              <a:rPr sz="3200"/>
            </a:br>
            <a:r>
              <a:rPr b="0" lang="en-US" sz="1600" spc="-1" strike="noStrike">
                <a:solidFill>
                  <a:srgbClr val="4f81bd"/>
                </a:solidFill>
                <a:latin typeface="Arial Black"/>
              </a:rPr>
              <a:t>Project funded by the European Union</a:t>
            </a:r>
            <a:br>
              <a:rPr sz="1600"/>
            </a:br>
            <a:r>
              <a:rPr b="0" lang="en-US" sz="1600" spc="-1" strike="noStrike">
                <a:solidFill>
                  <a:srgbClr val="4f81bd"/>
                </a:solidFill>
                <a:latin typeface="Arial Black"/>
              </a:rPr>
              <a:t>Implemented by EEC-Nepal</a:t>
            </a:r>
            <a:br>
              <a:rPr sz="1600"/>
            </a:b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Black"/>
              </a:rPr>
              <a:t>Kick off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Oct 2-3, 200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Narrow"/>
              </a:rPr>
              <a:t>London Chamber of Commerce and Industry (LC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Narrow"/>
              </a:rPr>
              <a:t>London, Great 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Narrow"/>
              </a:rPr>
              <a:t>Project Part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F:\Arun Kattel - Preparation for project implimentation\Partner's LOGO\Project With Logo\Invest_Reversed_1.jpg"/>
          <p:cNvPicPr/>
          <p:nvPr/>
        </p:nvPicPr>
        <p:blipFill>
          <a:blip r:embed="rId1"/>
          <a:stretch/>
        </p:blipFill>
        <p:spPr>
          <a:xfrm>
            <a:off x="57240" y="142920"/>
            <a:ext cx="939600" cy="9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Arun Kattel - Preparation for project implimentation\Partner's LOGO\Danish federation.JPG"/>
          <p:cNvPicPr/>
          <p:nvPr/>
        </p:nvPicPr>
        <p:blipFill>
          <a:blip r:embed="rId2"/>
          <a:stretch/>
        </p:blipFill>
        <p:spPr>
          <a:xfrm>
            <a:off x="4780080" y="5394240"/>
            <a:ext cx="554040" cy="14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:\Arun Kattel - Preparation for project implimentation\Partner's LOGO\FNCSIN LOGO 3.JPG"/>
          <p:cNvPicPr/>
          <p:nvPr/>
        </p:nvPicPr>
        <p:blipFill>
          <a:blip r:embed="rId3"/>
          <a:stretch/>
        </p:blipFill>
        <p:spPr>
          <a:xfrm>
            <a:off x="2800440" y="5342040"/>
            <a:ext cx="780840" cy="145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ll Users\Documents\Logos of ECIBON Partners\LCCI reversed_black.jpg"/>
          <p:cNvPicPr/>
          <p:nvPr/>
        </p:nvPicPr>
        <p:blipFill>
          <a:blip r:embed="rId4"/>
          <a:stretch/>
        </p:blipFill>
        <p:spPr>
          <a:xfrm>
            <a:off x="6039000" y="6095880"/>
            <a:ext cx="3057480" cy="70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All Users\Documents\Logos of ECIBON Partners\engelsk ce 4-fŠrg..jpg"/>
          <p:cNvPicPr/>
          <p:nvPr/>
        </p:nvPicPr>
        <p:blipFill>
          <a:blip r:embed="rId5"/>
          <a:stretch/>
        </p:blipFill>
        <p:spPr>
          <a:xfrm>
            <a:off x="57240" y="5676840"/>
            <a:ext cx="2235240" cy="10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7772400" y="171360"/>
            <a:ext cx="1314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7:48:21Z</dcterms:created>
  <dc:creator>user</dc:creator>
  <dc:description/>
  <dc:language>en-US</dc:language>
  <cp:lastModifiedBy>user</cp:lastModifiedBy>
  <dcterms:modified xsi:type="dcterms:W3CDTF">2007-09-28T07:31:25Z</dcterms:modified>
  <cp:revision>27</cp:revision>
  <dc:subject/>
  <dc:title>Slide 1</dc:title>
</cp:coreProperties>
</file>