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BB0-E58E-43C4-B79B-861AA09E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BB5-EBFC-48CD-9E2B-ABF99C3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795-4B79-46EE-BD6A-789507C7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7BC-190E-4E10-9929-B397163A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086-BF97-4E7F-8A57-79593BF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ACF-BA7E-4920-B96C-7FFB77C5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06B-7F89-4EBA-A0F3-38FFB11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2D4-F7C4-457F-A69B-823F390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BB6-08BB-451D-B028-061401B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B19-203D-435C-B594-C566BC0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4EA-BB10-4D51-96A2-D96116A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3A9-B221-44DC-B98A-A924F73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5A6-6824-41CE-A46A-D739454A4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4f81bd"/>
                </a:solidFill>
                <a:latin typeface="Arial Black"/>
              </a:rPr>
              <a:t>Enhancing the Capacity of Intermediary Business Organizations in Nepal” </a:t>
            </a:r>
            <a:br>
              <a:rPr sz="2400"/>
            </a:br>
            <a:r>
              <a:rPr b="0" lang="en-US" sz="2400" spc="-1" strike="noStrike">
                <a:solidFill>
                  <a:srgbClr val="4f81bd"/>
                </a:solidFill>
                <a:latin typeface="Arial Black"/>
              </a:rPr>
              <a:t>(ECIBON)</a:t>
            </a:r>
            <a:br>
              <a:rPr sz="3200"/>
            </a:br>
            <a:r>
              <a:rPr b="0" lang="en-US" sz="1600" spc="-1" strike="noStrike">
                <a:solidFill>
                  <a:srgbClr val="4f81bd"/>
                </a:solidFill>
                <a:latin typeface="Arial Black"/>
              </a:rPr>
              <a:t>Project funded by the European Union</a:t>
            </a:r>
            <a:br>
              <a:rPr sz="1600"/>
            </a:br>
            <a:r>
              <a:rPr b="0" lang="en-US" sz="1600" spc="-1" strike="noStrike">
                <a:solidFill>
                  <a:srgbClr val="4f81bd"/>
                </a:solidFill>
                <a:latin typeface="Arial Black"/>
              </a:rPr>
              <a:t>Implemented by EEC-Nepal</a:t>
            </a:r>
            <a:br>
              <a:rPr sz="1600"/>
            </a:b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Black"/>
              </a:rPr>
              <a:t>Kick off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Oct 2-3, 200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Narrow"/>
              </a:rPr>
              <a:t>London Chamber of Commerce and Industry (LC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Narrow"/>
              </a:rPr>
              <a:t>London, Great 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Narrow"/>
              </a:rPr>
              <a:t>Project Part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F:\Arun Kattel - Preparation for project implimentation\Partner's LOGO\Project With Logo\Invest_Reversed_1.jpg"/>
          <p:cNvPicPr/>
          <p:nvPr/>
        </p:nvPicPr>
        <p:blipFill>
          <a:blip r:embed="rId1"/>
          <a:stretch/>
        </p:blipFill>
        <p:spPr>
          <a:xfrm>
            <a:off x="57240" y="142920"/>
            <a:ext cx="939600" cy="9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Arun Kattel - Preparation for project implimentation\Partner's LOGO\Danish federation.JPG"/>
          <p:cNvPicPr/>
          <p:nvPr/>
        </p:nvPicPr>
        <p:blipFill>
          <a:blip r:embed="rId2"/>
          <a:stretch/>
        </p:blipFill>
        <p:spPr>
          <a:xfrm>
            <a:off x="4780080" y="5394240"/>
            <a:ext cx="554040" cy="14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:\Arun Kattel - Preparation for project implimentation\Partner's LOGO\FNCSIN LOGO 3.JPG"/>
          <p:cNvPicPr/>
          <p:nvPr/>
        </p:nvPicPr>
        <p:blipFill>
          <a:blip r:embed="rId3"/>
          <a:stretch/>
        </p:blipFill>
        <p:spPr>
          <a:xfrm>
            <a:off x="2800440" y="5342040"/>
            <a:ext cx="780840" cy="145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ll Users\Documents\Logos of ECIBON Partners\LCCI reversed_black.jpg"/>
          <p:cNvPicPr/>
          <p:nvPr/>
        </p:nvPicPr>
        <p:blipFill>
          <a:blip r:embed="rId4"/>
          <a:stretch/>
        </p:blipFill>
        <p:spPr>
          <a:xfrm>
            <a:off x="6039000" y="6095880"/>
            <a:ext cx="3057480" cy="70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All Users\Documents\Logos of ECIBON Partners\engelsk ce 4-fŠrg..jpg"/>
          <p:cNvPicPr/>
          <p:nvPr/>
        </p:nvPicPr>
        <p:blipFill>
          <a:blip r:embed="rId5"/>
          <a:stretch/>
        </p:blipFill>
        <p:spPr>
          <a:xfrm>
            <a:off x="57240" y="5676840"/>
            <a:ext cx="2235240" cy="10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7772400" y="171360"/>
            <a:ext cx="1314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7:48:21Z</dcterms:created>
  <dc:creator>user</dc:creator>
  <dc:description/>
  <dc:language>en-US</dc:language>
  <cp:lastModifiedBy>user</cp:lastModifiedBy>
  <dcterms:modified xsi:type="dcterms:W3CDTF">2007-09-28T07:31:25Z</dcterms:modified>
  <cp:revision>27</cp:revision>
  <dc:subject/>
  <dc:title>Slide 1</dc:title>
</cp:coreProperties>
</file>